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4963A-4942-4D3F-81DD-51F1DCBFE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76CF8-872D-4B31-8084-6706B98A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8B1D-8185-4CDD-A1FB-C599074FE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12684-308C-4978-9517-02D8B098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7F91C-81DA-41D2-A2B5-B33DAE70B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48A14-40D6-4F57-B4DB-478778C8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57D2A-2E9B-4892-A26C-C92B1131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CE9F-2D94-4B94-85C0-B62603EA5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5EAC-E207-40B9-B4A4-D578046E8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B56B9-FED7-4F29-B9E3-E3E01A1BC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77D1B-03AE-4A21-840B-871A581F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E6F70-CBAC-413F-976D-01618968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32772-0193-44AC-AA5E-74160454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2F1BB-A212-43C4-9B51-92F31E27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8EB12-44EA-4086-B2DD-3D930AB86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25B3-BCDF-41B0-912F-1E3D6D68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52A37-1F53-4878-AFCE-7414FBA5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B632-993E-4284-B7D4-6F1B0FFB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BA32-BEAF-4E48-9138-9386DB6C3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80EC-B9FC-414E-A6E5-862FB1B18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623B-BC53-4831-A0F8-A9E960416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3B16-4181-48BF-BDA5-05AD40C08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B837-782C-4E0F-9430-72C4FFA2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B6A0-4851-4F35-933A-867460E97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CF76-A113-4AE5-AFE2-6FD41EEFB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1A9B-088C-4764-AD73-7230521C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6286-4104-41F9-82E3-74F2E0844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30DF-6866-42EE-8F33-7D289B16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F508-CA5C-4E2F-A02C-15A13F62F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DFA04-003C-426B-A2A7-3949F23F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 – Copy the questions onto the new do now sheet then answer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. What force affects a falling object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. Does the speed of the object increase or decrease as it fall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685800"/>
            <a:ext cx="93726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lying objects are affected by special fo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y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Li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r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85800" y="182520"/>
            <a:ext cx="7802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, the air is not empty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full of ato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0" b="54569"/>
          <a:stretch/>
        </p:blipFill>
        <p:spPr>
          <a:xfrm>
            <a:off x="1541520" y="2286000"/>
            <a:ext cx="70009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6858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is the air pushing on an object as it fl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rag slows flying objects d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25760" y="3629160"/>
            <a:ext cx="402732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85800" y="287280"/>
            <a:ext cx="89154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is the air pushing up on a flying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helps keep an object in the 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0" t="25939" r="0" b="38176"/>
          <a:stretch/>
        </p:blipFill>
        <p:spPr>
          <a:xfrm>
            <a:off x="1447920" y="3200400"/>
            <a:ext cx="701028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2743200" y="2971800"/>
            <a:ext cx="342900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02920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0884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51460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28600" y="290520"/>
            <a:ext cx="960120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force slows down a flying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Air pushes up on flying objects. What is the name of this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685800" y="6858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ape of a flying object changes how well it will fly.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74080" y="4543560"/>
            <a:ext cx="290196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982960" y="5303880"/>
            <a:ext cx="4145040" cy="21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992240" y="2360520"/>
            <a:ext cx="5075280" cy="279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182520" y="5303880"/>
            <a:ext cx="280044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throw a paper airplane through the air, what force keeps it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force in the air slows airplanes down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What force slows down a skydiver with a  parachute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What force helps a bird fly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team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kee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chute Dropper (someone tall is probably b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Hold the toy person WITHOUT the parachute at the same level as the tape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 – Drop the toy person.  The timekeeper should time how long it takes the toy t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 – Record the time in the trial 1 box on your team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 – Repeat steps 1-3 two more times.  Record the times on your paper in the trial 2 and 3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Calculate the speed.  Divide the distance (3 meters) by your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3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6 – Hold the toy person WITH the parachute at the same level as the tape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7 – Drop the toy person.  The timekeeper should time how long it takes the toy t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8 – Record the time in the trial 1 box on your team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9 – Repeat steps 1-3 two more times.  Record the times on your paper in the trial 2 and 3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0 – Calculate the speed.  Divide the distance (3 meters) by your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3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on the bottom of your lab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85800" y="457200"/>
            <a:ext cx="9144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review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What is a surface with high fr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What is a surface with low fr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143000" y="685800"/>
            <a:ext cx="629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ING OBJECTS!!!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107040" y="5008680"/>
            <a:ext cx="3581640" cy="22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2363760"/>
            <a:ext cx="3570120" cy="518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570120" y="4237200"/>
            <a:ext cx="2146320" cy="309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259680" y="143208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2:57:06Z</dcterms:created>
  <dc:creator>molly schumer</dc:creator>
  <dc:description/>
  <dc:language>en-US</dc:language>
  <cp:lastModifiedBy>Caroline Roth</cp:lastModifiedBy>
  <dcterms:modified xsi:type="dcterms:W3CDTF">2011-02-21T04:21:15Z</dcterms:modified>
  <cp:revision>14</cp:revision>
  <dc:subject/>
  <dc:title>PowerPoint Presentation</dc:title>
</cp:coreProperties>
</file>